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0068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D0B30-7090-4D2B-8AE4-A3631738FB4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B1D96-CC08-4977-BAFB-D278321230D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D2603-EE74-4619-8D73-8DE99562A86A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AE7-9853-4755-A306-7B6BDD81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7BC-BCA7-4BD4-969F-57991FAE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022-38E9-4F2A-AB85-ABD3766C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6A9-2EEA-44E0-8094-44AAB662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4B7-30A1-4414-A5BF-1332F92C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777-EBD1-42CE-B98E-9DD9D602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1D9-3E62-45D4-B4EE-621213C0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722-8136-46E7-9DA8-D347B9AE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6537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43E-F620-4230-B266-54A56731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53F-6C8C-42ED-A47D-1E7F92CF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E3B-59C9-4ED7-A4CF-FB6D45B7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CA4-1DF6-4AD4-9D93-0882A366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0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5-10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3280"/>
            <a:ext cx="28893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© KING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897FDD-A7A3-4719-A136-40748D0FD27C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7053120" y="285840"/>
            <a:ext cx="2090880" cy="107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Aanpassingen i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Beheermodel en Releasebele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1371600" y="5072040"/>
            <a:ext cx="64008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700" spc="-1" strike="noStrike">
                <a:solidFill>
                  <a:srgbClr val="898989"/>
                </a:solidFill>
                <a:latin typeface="Calibri"/>
              </a:rPr>
              <a:t>Utrecht - StUF Regiegroep - 27/10/20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700" spc="-1" strike="noStrike">
                <a:solidFill>
                  <a:srgbClr val="898989"/>
                </a:solidFill>
                <a:latin typeface="Calibri"/>
              </a:rPr>
              <a:t>Peter Klav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27468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Beoogde aanpassing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</a:rPr>
              <a:t>Toetsingskader/criteria t.b.v. toetsing op familieaspecten (Henr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</a:rPr>
              <a:t>Opsplitsing van sectormodellen in kern en koppelvlakspecificaties (Maarten/Hen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  <a:ea typeface="Lucida Sans Unicode"/>
              </a:rPr>
              <a:t>Voorwaarden voor gebruik faciliteiten (o.a. forum / gedeeld behe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  <a:ea typeface="Lucida Sans Unicode"/>
              </a:rPr>
              <a:t>Afhankelijkheden tussen StUF en informatiemode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  <a:ea typeface="Lucida Sans Unicode"/>
              </a:rPr>
              <a:t>	</a:t>
            </a:r>
            <a:r>
              <a:rPr b="0" lang="nl-NL" sz="2000" spc="-1" strike="noStrike">
                <a:solidFill>
                  <a:srgbClr val="da5c21"/>
                </a:solidFill>
                <a:latin typeface="Calibri"/>
                <a:ea typeface="Lucida Sans Unicode"/>
              </a:rPr>
              <a:t>o.a. Aansluiting op RSGB/RGBZ in UML/Enterprise Ar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  <a:ea typeface="Lucida Sans Unicode"/>
              </a:rPr>
              <a:t>Naamswijziging OSB in Digikopp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</a:rPr>
              <a:t>Update StUF familieplaat / protocolbindingen onderla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</a:rPr>
              <a:t>Errataprocedure incidentbeheer (Joë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</a:rPr>
              <a:t>Wijzigingen die voortkomen uit de goedkeuring en vaststelling van het BAG-WOZ koppelvlak (Jan/Henri/Maart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nl-NL" sz="2000" spc="-1" strike="noStrike">
                <a:solidFill>
                  <a:srgbClr val="da5c21"/>
                </a:solidFill>
                <a:latin typeface="Calibri"/>
              </a:rPr>
              <a:t>&lt;andere onderwerpen die meegenomen moeten worden?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13:03Z</dcterms:created>
  <dc:creator>Peter Klaver</dc:creator>
  <dc:description/>
  <dc:language>en-US</dc:language>
  <cp:lastModifiedBy>Peter</cp:lastModifiedBy>
  <dcterms:modified xsi:type="dcterms:W3CDTF">2010-10-27T10:43:57Z</dcterms:modified>
  <cp:revision>6</cp:revision>
  <dc:subject/>
  <dc:title>Werkplan StUF 2010</dc:title>
</cp:coreProperties>
</file>